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F2E-F154-401F-8F4B-E0BE1E04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099-DA63-455E-8AA6-56744551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372-49DA-46F3-AD77-AC12D9C4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2FC-1E93-46F2-BEF8-A8FC1B36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0F4-4D91-4DC4-8086-C1823CA8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FC0-620C-4D4B-9CC6-3E7D25B4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2D5-388B-42F6-9A5B-FF3419A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096-5D05-44D8-9100-5A6A23D5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A27-D378-476C-894B-254DE5BB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2AC-34BD-4D7F-AB56-DB5256B5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1A6-450C-4C4E-91F9-F375CD3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228-3213-4B52-8B4B-AE11DB38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C2465-D8E1-455D-9530-C73602E1F6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3176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My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06432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60760" y="3970440"/>
            <a:ext cx="648324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8"/>
          <p:cNvSpPr/>
          <p:nvPr/>
        </p:nvSpPr>
        <p:spPr>
          <a:xfrm>
            <a:off x="1981080" y="3881520"/>
            <a:ext cx="69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bunch of flowers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束花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lower bed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花坛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1967040" y="2895480"/>
            <a:ext cx="48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w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aʊ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"/>
          <p:cNvSpPr/>
          <p:nvPr/>
        </p:nvSpPr>
        <p:spPr>
          <a:xfrm>
            <a:off x="971640" y="134784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lower /ﬂaʊ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花；花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971640" y="401004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167840" y="3144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1163160" y="236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942840" y="4800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音异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2965320" y="481320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lou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面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1979640" y="2133720"/>
            <a:ext cx="63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lowers are very beautiful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花很美丽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3166920" y="53150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wer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塔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ow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942840" y="5551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2971800" y="4255920"/>
            <a:ext cx="20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t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2459160" y="2228760"/>
            <a:ext cx="33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ɔː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3005280" y="147960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ater /wɔːt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444680" y="435456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1609200" y="2505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1444680" y="313992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465200" y="4965840"/>
            <a:ext cx="14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成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060720" y="487836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row cold water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泼冷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wat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水路；乘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2530440" y="3036960"/>
            <a:ext cx="34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to water flowers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浇花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1"/>
          <p:cNvGrpSpPr/>
          <p:nvPr/>
        </p:nvGrpSpPr>
        <p:grpSpPr>
          <a:xfrm>
            <a:off x="357120" y="1641600"/>
            <a:ext cx="2737080" cy="666720"/>
            <a:chOff x="357120" y="1641600"/>
            <a:chExt cx="2737080" cy="666720"/>
          </a:xfrm>
        </p:grpSpPr>
        <p:sp>
          <p:nvSpPr>
            <p:cNvPr id="174" name="圆角矩形 24"/>
            <p:cNvSpPr/>
            <p:nvPr/>
          </p:nvSpPr>
          <p:spPr>
            <a:xfrm>
              <a:off x="1119240" y="17542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9"/>
            <p:cNvSpPr/>
            <p:nvPr/>
          </p:nvSpPr>
          <p:spPr>
            <a:xfrm>
              <a:off x="1388880" y="1724040"/>
              <a:ext cx="17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57120" y="16416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"/>
          <p:cNvSpPr/>
          <p:nvPr/>
        </p:nvSpPr>
        <p:spPr>
          <a:xfrm>
            <a:off x="2668680" y="1459080"/>
            <a:ext cx="39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ok /kʊ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烹饪；烹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2346480" y="2365200"/>
            <a:ext cx="498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mum likes to cook for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妈妈喜欢为我做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1579680" y="25700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"/>
          <p:cNvSpPr/>
          <p:nvPr/>
        </p:nvSpPr>
        <p:spPr>
          <a:xfrm>
            <a:off x="1414440" y="396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405160" y="3755880"/>
            <a:ext cx="607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k lunc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午饭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k dinn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晚餐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428840" y="5483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去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1"/>
          <p:cNvSpPr/>
          <p:nvPr/>
        </p:nvSpPr>
        <p:spPr>
          <a:xfrm>
            <a:off x="2811600" y="539280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3625920" y="45306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o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书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凉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1417680" y="4776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4"/>
          <p:cNvGrpSpPr/>
          <p:nvPr/>
        </p:nvGrpSpPr>
        <p:grpSpPr>
          <a:xfrm>
            <a:off x="401760" y="1630440"/>
            <a:ext cx="2736720" cy="666720"/>
            <a:chOff x="401760" y="1630440"/>
            <a:chExt cx="2736720" cy="666720"/>
          </a:xfrm>
        </p:grpSpPr>
        <p:sp>
          <p:nvSpPr>
            <p:cNvPr id="190" name="圆角矩形 26"/>
            <p:cNvSpPr/>
            <p:nvPr/>
          </p:nvSpPr>
          <p:spPr>
            <a:xfrm>
              <a:off x="1163520" y="17431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9"/>
            <p:cNvSpPr/>
            <p:nvPr/>
          </p:nvSpPr>
          <p:spPr>
            <a:xfrm>
              <a:off x="1433520" y="171288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01760" y="163044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4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1706400" y="3292560"/>
            <a:ext cx="341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cook is co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位厨师正在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2"/>
          <p:cNvGrpSpPr/>
          <p:nvPr/>
        </p:nvGrpSpPr>
        <p:grpSpPr>
          <a:xfrm>
            <a:off x="1773360" y="2784600"/>
            <a:ext cx="2403360" cy="459720"/>
            <a:chOff x="1773360" y="2784600"/>
            <a:chExt cx="2403360" cy="459720"/>
          </a:xfrm>
        </p:grpSpPr>
        <p:sp>
          <p:nvSpPr>
            <p:cNvPr id="198" name="TextBox 10"/>
            <p:cNvSpPr/>
            <p:nvPr/>
          </p:nvSpPr>
          <p:spPr>
            <a:xfrm>
              <a:off x="2089080" y="278460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773360" y="28321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Box 2"/>
          <p:cNvSpPr/>
          <p:nvPr/>
        </p:nvSpPr>
        <p:spPr>
          <a:xfrm>
            <a:off x="1739880" y="207504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意义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3452760" y="193212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k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厨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3" descr=""/>
          <p:cNvPicPr/>
          <p:nvPr/>
        </p:nvPicPr>
        <p:blipFill>
          <a:blip r:embed="rId3"/>
          <a:stretch/>
        </p:blipFill>
        <p:spPr>
          <a:xfrm>
            <a:off x="5416560" y="2919240"/>
            <a:ext cx="3219480" cy="29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1001880" y="2284560"/>
            <a:ext cx="765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ing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种动词短语类型，表示“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类似的动词短语还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"/>
          <p:cNvSpPr/>
          <p:nvPr/>
        </p:nvSpPr>
        <p:spPr>
          <a:xfrm>
            <a:off x="2757600" y="1463760"/>
            <a:ext cx="44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o shopping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去购物；去买东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"/>
          <p:cNvGrpSpPr/>
          <p:nvPr/>
        </p:nvGrpSpPr>
        <p:grpSpPr>
          <a:xfrm>
            <a:off x="119160" y="1628640"/>
            <a:ext cx="2736720" cy="666720"/>
            <a:chOff x="119160" y="1628640"/>
            <a:chExt cx="2736720" cy="666720"/>
          </a:xfrm>
        </p:grpSpPr>
        <p:sp>
          <p:nvSpPr>
            <p:cNvPr id="209" name="圆角矩形 24"/>
            <p:cNvSpPr/>
            <p:nvPr/>
          </p:nvSpPr>
          <p:spPr>
            <a:xfrm>
              <a:off x="880920" y="17413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19"/>
            <p:cNvSpPr/>
            <p:nvPr/>
          </p:nvSpPr>
          <p:spPr>
            <a:xfrm>
              <a:off x="1150920" y="171108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119160" y="162864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7027920" y="1636560"/>
            <a:ext cx="1146240" cy="65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1406520" y="3819600"/>
          <a:ext cx="6051600" cy="2214360"/>
        </p:xfrm>
        <a:graphic>
          <a:graphicData uri="http://schemas.openxmlformats.org/drawingml/2006/table">
            <a:tbl>
              <a:tblPr/>
              <a:tblGrid>
                <a:gridCol w="3025800"/>
                <a:gridCol w="30258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fish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钓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skat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滑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ski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滑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hik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徒步旅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hunt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打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swimm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游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961920" y="2232000"/>
            <a:ext cx="9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1955880" y="1995480"/>
            <a:ext cx="497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brother likes to go fishing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的哥哥喜欢去钓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2016000" y="3544920"/>
            <a:ext cx="668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dad usually goes _____ on weekend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周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wimm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swi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w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6"/>
          <p:cNvGrpSpPr/>
          <p:nvPr/>
        </p:nvGrpSpPr>
        <p:grpSpPr>
          <a:xfrm>
            <a:off x="712800" y="3784680"/>
            <a:ext cx="1287360" cy="459720"/>
            <a:chOff x="712800" y="3784680"/>
            <a:chExt cx="1287360" cy="459720"/>
          </a:xfrm>
        </p:grpSpPr>
        <p:sp>
          <p:nvSpPr>
            <p:cNvPr id="221" name="TextBox 3"/>
            <p:cNvSpPr/>
            <p:nvPr/>
          </p:nvSpPr>
          <p:spPr>
            <a:xfrm>
              <a:off x="1008360" y="37846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12800" y="381132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TextBox 19"/>
          <p:cNvSpPr/>
          <p:nvPr/>
        </p:nvSpPr>
        <p:spPr>
          <a:xfrm>
            <a:off x="5024520" y="3808440"/>
            <a:ext cx="51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文本框 8" descr=""/>
          <p:cNvPicPr/>
          <p:nvPr/>
        </p:nvPicPr>
        <p:blipFill>
          <a:blip r:embed="rId1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22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Picture 19" descr="C:\Users\john\Desktop\I)H@F25_I1N)LEC7WOETZ`H.png"/>
          <p:cNvPicPr/>
          <p:nvPr/>
        </p:nvPicPr>
        <p:blipFill>
          <a:blip r:embed="rId4"/>
          <a:stretch/>
        </p:blipFill>
        <p:spPr>
          <a:xfrm>
            <a:off x="1400040" y="1596960"/>
            <a:ext cx="6526440" cy="306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1446120" y="4826160"/>
          <a:ext cx="6299280" cy="1554120"/>
        </p:xfrm>
        <a:graphic>
          <a:graphicData uri="http://schemas.openxmlformats.org/drawingml/2006/table">
            <a:tbl>
              <a:tblPr/>
              <a:tblGrid>
                <a:gridCol w="62992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 for a walk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book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 f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 flowers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ch TV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  <p:sp>
        <p:nvSpPr>
          <p:cNvPr id="230" name="矩形 2"/>
          <p:cNvSpPr/>
          <p:nvPr/>
        </p:nvSpPr>
        <p:spPr>
          <a:xfrm>
            <a:off x="1208160" y="933480"/>
            <a:ext cx="24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and wr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3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文本框 8" descr=""/>
          <p:cNvPicPr/>
          <p:nvPr/>
        </p:nvPicPr>
        <p:blipFill>
          <a:blip r:embed="rId3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sp>
        <p:nvSpPr>
          <p:cNvPr id="235" name="矩形 3"/>
          <p:cNvSpPr/>
          <p:nvPr/>
        </p:nvSpPr>
        <p:spPr>
          <a:xfrm>
            <a:off x="636480" y="16304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likes to plant flowers. She likes to water flowers. 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"/>
          <p:cNvSpPr/>
          <p:nvPr/>
        </p:nvSpPr>
        <p:spPr>
          <a:xfrm>
            <a:off x="1251000" y="1565280"/>
            <a:ext cx="67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What ____ your parents ____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s       B. d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      C. 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 like to go _____ a w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o                     B. for              C.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3298680" y="4022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40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"/>
          <p:cNvSpPr/>
          <p:nvPr/>
        </p:nvSpPr>
        <p:spPr>
          <a:xfrm>
            <a:off x="2545200" y="25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1579680" y="1405080"/>
            <a:ext cx="5930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将短语写在相应的图片下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1962000" y="5648400"/>
            <a:ext cx="56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                          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24"/>
          <p:cNvGrpSpPr/>
          <p:nvPr/>
        </p:nvGrpSpPr>
        <p:grpSpPr>
          <a:xfrm>
            <a:off x="7090920" y="1246320"/>
            <a:ext cx="1710360" cy="368280"/>
            <a:chOff x="7090920" y="1246320"/>
            <a:chExt cx="1710360" cy="368280"/>
          </a:xfrm>
        </p:grpSpPr>
        <p:sp>
          <p:nvSpPr>
            <p:cNvPr id="247" name="矩形 25"/>
            <p:cNvSpPr/>
            <p:nvPr/>
          </p:nvSpPr>
          <p:spPr>
            <a:xfrm>
              <a:off x="7090920" y="126360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17"/>
            <p:cNvSpPr/>
            <p:nvPr/>
          </p:nvSpPr>
          <p:spPr>
            <a:xfrm>
              <a:off x="7147800" y="12463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1712880" y="2162160"/>
          <a:ext cx="5270400" cy="1736640"/>
        </p:xfrm>
        <a:graphic>
          <a:graphicData uri="http://schemas.openxmlformats.org/drawingml/2006/table">
            <a:tbl>
              <a:tblPr/>
              <a:tblGrid>
                <a:gridCol w="527040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ater flowers                    read a 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for a walk                     plant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shopping                       cook me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21" descr=""/>
          <p:cNvPicPr/>
          <p:nvPr/>
        </p:nvPicPr>
        <p:blipFill>
          <a:blip r:embed="rId2"/>
          <a:stretch/>
        </p:blipFill>
        <p:spPr>
          <a:xfrm>
            <a:off x="4948200" y="3997440"/>
            <a:ext cx="1990800" cy="1380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"/>
          <p:cNvPicPr/>
          <p:nvPr/>
        </p:nvPicPr>
        <p:blipFill>
          <a:blip r:embed="rId3"/>
          <a:stretch/>
        </p:blipFill>
        <p:spPr>
          <a:xfrm>
            <a:off x="2104920" y="3968640"/>
            <a:ext cx="1467000" cy="14097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5342040" y="5527800"/>
            <a:ext cx="20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ter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046240" y="55260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"/>
          <p:cNvSpPr/>
          <p:nvPr/>
        </p:nvSpPr>
        <p:spPr>
          <a:xfrm>
            <a:off x="1712160" y="4743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4615200" y="46879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311560" y="5051520"/>
            <a:ext cx="49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like to read English 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C:\Users\john\Desktop\123.jpg"/>
          <p:cNvPicPr/>
          <p:nvPr/>
        </p:nvPicPr>
        <p:blipFill>
          <a:blip r:embed="rId2"/>
          <a:stretch/>
        </p:blipFill>
        <p:spPr>
          <a:xfrm>
            <a:off x="603360" y="1579680"/>
            <a:ext cx="3986280" cy="287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C:\Users\john\Desktop\1234.jpg"/>
          <p:cNvPicPr/>
          <p:nvPr/>
        </p:nvPicPr>
        <p:blipFill>
          <a:blip r:embed="rId3"/>
          <a:stretch/>
        </p:blipFill>
        <p:spPr>
          <a:xfrm>
            <a:off x="4773600" y="1409760"/>
            <a:ext cx="3887640" cy="28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4"/>
          <p:cNvGrpSpPr/>
          <p:nvPr/>
        </p:nvGrpSpPr>
        <p:grpSpPr>
          <a:xfrm>
            <a:off x="7090920" y="1246320"/>
            <a:ext cx="1710360" cy="368280"/>
            <a:chOff x="7090920" y="1246320"/>
            <a:chExt cx="1710360" cy="368280"/>
          </a:xfrm>
        </p:grpSpPr>
        <p:sp>
          <p:nvSpPr>
            <p:cNvPr id="259" name="矩形 25"/>
            <p:cNvSpPr/>
            <p:nvPr/>
          </p:nvSpPr>
          <p:spPr>
            <a:xfrm>
              <a:off x="7090920" y="126360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17"/>
            <p:cNvSpPr/>
            <p:nvPr/>
          </p:nvSpPr>
          <p:spPr>
            <a:xfrm>
              <a:off x="7147800" y="12463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989000" y="2139840"/>
            <a:ext cx="1622520" cy="2092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3"/>
          <a:stretch/>
        </p:blipFill>
        <p:spPr>
          <a:xfrm>
            <a:off x="5308560" y="2306520"/>
            <a:ext cx="1963800" cy="1925640"/>
          </a:xfrm>
          <a:prstGeom prst="rect">
            <a:avLst/>
          </a:prstGeom>
          <a:ln w="0">
            <a:noFill/>
          </a:ln>
        </p:spPr>
      </p:pic>
      <p:sp>
        <p:nvSpPr>
          <p:cNvPr id="263" name="矩形 3"/>
          <p:cNvSpPr/>
          <p:nvPr/>
        </p:nvSpPr>
        <p:spPr>
          <a:xfrm>
            <a:off x="1463040" y="3079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4803120" y="3057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93960" y="4614840"/>
            <a:ext cx="56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                             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5460840" y="447984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ok m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905120" y="45100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nt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930240" y="116208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961920" y="2782800"/>
            <a:ext cx="806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lk  plant flower  water  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t flowers   go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he/she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grandfather likes to go for a w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7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76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1824120" y="272880"/>
            <a:ext cx="6703920" cy="584280"/>
          </a:xfrm>
          <a:prstGeom prst="rect">
            <a:avLst/>
          </a:prstGeom>
          <a:ln w="0">
            <a:noFill/>
          </a:ln>
        </p:spPr>
      </p:pic>
      <p:grpSp>
        <p:nvGrpSpPr>
          <p:cNvPr id="66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6137280" y="5148360"/>
            <a:ext cx="30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my uncle Dachao. He likes to work on his 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"/>
          <p:cNvPicPr/>
          <p:nvPr/>
        </p:nvPicPr>
        <p:blipFill>
          <a:blip r:embed="rId7"/>
          <a:stretch/>
        </p:blipFill>
        <p:spPr>
          <a:xfrm>
            <a:off x="1150920" y="1120680"/>
            <a:ext cx="1820880" cy="1484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"/>
          <p:cNvPicPr/>
          <p:nvPr/>
        </p:nvPicPr>
        <p:blipFill>
          <a:blip r:embed="rId8"/>
          <a:stretch/>
        </p:blipFill>
        <p:spPr>
          <a:xfrm>
            <a:off x="3813120" y="110808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"/>
          <p:cNvPicPr/>
          <p:nvPr/>
        </p:nvPicPr>
        <p:blipFill>
          <a:blip r:embed="rId9"/>
          <a:stretch/>
        </p:blipFill>
        <p:spPr>
          <a:xfrm>
            <a:off x="6245280" y="1131840"/>
            <a:ext cx="176688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"/>
          <p:cNvPicPr/>
          <p:nvPr/>
        </p:nvPicPr>
        <p:blipFill>
          <a:blip r:embed="rId10"/>
          <a:stretch/>
        </p:blipFill>
        <p:spPr>
          <a:xfrm>
            <a:off x="1019160" y="3884760"/>
            <a:ext cx="2102040" cy="128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"/>
          <p:cNvPicPr/>
          <p:nvPr/>
        </p:nvPicPr>
        <p:blipFill>
          <a:blip r:embed="rId11"/>
          <a:stretch/>
        </p:blipFill>
        <p:spPr>
          <a:xfrm>
            <a:off x="3726000" y="3708360"/>
            <a:ext cx="1782720" cy="14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"/>
          <p:cNvPicPr/>
          <p:nvPr/>
        </p:nvPicPr>
        <p:blipFill>
          <a:blip r:embed="rId12"/>
          <a:stretch/>
        </p:blipFill>
        <p:spPr>
          <a:xfrm>
            <a:off x="6388200" y="3675240"/>
            <a:ext cx="1751040" cy="143316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689040" y="2532240"/>
            <a:ext cx="282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 grandfather likes to go for a walk. I like to go for a walk with my grandfa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3548160" y="2627280"/>
            <a:ext cx="269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 grandmother likes to plant flowers. Jing likes to water flo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6157800" y="2579760"/>
            <a:ext cx="250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 father likes to cook. I like to help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900000" y="51260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 mother likes to go sho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3251160" y="5159520"/>
            <a:ext cx="29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my aunt Meiping. She likes to read boo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7"/>
          <p:cNvSpPr/>
          <p:nvPr/>
        </p:nvSpPr>
        <p:spPr>
          <a:xfrm>
            <a:off x="2948040" y="1479600"/>
            <a:ext cx="387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es he/she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喜欢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18"/>
          <p:cNvSpPr/>
          <p:nvPr/>
        </p:nvSpPr>
        <p:spPr>
          <a:xfrm>
            <a:off x="1076400" y="16984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9"/>
          <p:cNvSpPr/>
          <p:nvPr/>
        </p:nvSpPr>
        <p:spPr>
          <a:xfrm>
            <a:off x="1357200" y="1679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9" descr="book.gif"/>
          <p:cNvPicPr/>
          <p:nvPr/>
        </p:nvPicPr>
        <p:blipFill>
          <a:blip r:embed="rId2"/>
          <a:stretch/>
        </p:blipFill>
        <p:spPr>
          <a:xfrm>
            <a:off x="304920" y="1620720"/>
            <a:ext cx="10872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3"/>
          <a:stretch/>
        </p:blipFill>
        <p:spPr>
          <a:xfrm>
            <a:off x="6821640" y="1593720"/>
            <a:ext cx="1145880" cy="65880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1412280" y="3359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238480" y="3117960"/>
            <a:ext cx="59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特殊疑问句，用来询问“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喜欢做什么？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1502640" y="503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子结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830680" y="4800600"/>
            <a:ext cx="487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+ do/does + sb. + like to do?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7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1827360" y="1897200"/>
            <a:ext cx="474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they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喜欢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Li Ming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李明喜欢做什么？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947160" y="2139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7"/>
          <p:cNvSpPr/>
          <p:nvPr/>
        </p:nvSpPr>
        <p:spPr>
          <a:xfrm>
            <a:off x="2868480" y="1593720"/>
            <a:ext cx="51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y grandfather likes to go for a walk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的爷爷喜欢去散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18"/>
          <p:cNvSpPr/>
          <p:nvPr/>
        </p:nvSpPr>
        <p:spPr>
          <a:xfrm>
            <a:off x="957240" y="1712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1227240" y="16826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" descr=""/>
          <p:cNvPicPr/>
          <p:nvPr/>
        </p:nvPicPr>
        <p:blipFill>
          <a:blip r:embed="rId2"/>
          <a:stretch/>
        </p:blipFill>
        <p:spPr>
          <a:xfrm>
            <a:off x="6751800" y="2079720"/>
            <a:ext cx="1143000" cy="6634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9" descr="book.gif"/>
          <p:cNvPicPr/>
          <p:nvPr/>
        </p:nvPicPr>
        <p:blipFill>
          <a:blip r:embed="rId3"/>
          <a:stretch/>
        </p:blipFill>
        <p:spPr>
          <a:xfrm>
            <a:off x="195120" y="1600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1219320" y="41022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290680" y="4006800"/>
            <a:ext cx="502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to read boo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读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is brother likes to play football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弟弟喜欢踢足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1111320" y="2793960"/>
            <a:ext cx="727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子结构及含义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b. like/likes to do s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此句式意为“某人喜欢做的某事。”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6"/>
          <p:cNvGrpSpPr/>
          <p:nvPr/>
        </p:nvGrpSpPr>
        <p:grpSpPr>
          <a:xfrm>
            <a:off x="1147680" y="2259000"/>
            <a:ext cx="1287720" cy="459720"/>
            <a:chOff x="1147680" y="2259000"/>
            <a:chExt cx="1287720" cy="459720"/>
          </a:xfrm>
        </p:grpSpPr>
        <p:sp>
          <p:nvSpPr>
            <p:cNvPr id="116" name="TextBox 3"/>
            <p:cNvSpPr/>
            <p:nvPr/>
          </p:nvSpPr>
          <p:spPr>
            <a:xfrm>
              <a:off x="1443240" y="2259000"/>
              <a:ext cx="9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147680" y="2285640"/>
              <a:ext cx="32436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矩形 24"/>
          <p:cNvSpPr/>
          <p:nvPr/>
        </p:nvSpPr>
        <p:spPr>
          <a:xfrm>
            <a:off x="2387520" y="201456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所给单词的正确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. Li _____(like) to go to the park with his 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5"/>
          <p:cNvSpPr/>
          <p:nvPr/>
        </p:nvSpPr>
        <p:spPr>
          <a:xfrm>
            <a:off x="3433680" y="2982960"/>
            <a:ext cx="7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ke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2406600" y="4529160"/>
            <a:ext cx="57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to go for a walk with my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和我的父母去散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289240" y="2238480"/>
            <a:ext cx="457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riend likes to go for a walk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朋友喜欢去散步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974880" y="171612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alk /wɔː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amp;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步行；走；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1339920" y="47750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87160" y="247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1330200" y="402732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2401920" y="3787920"/>
            <a:ext cx="57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for a walk = take/have a wal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7"/>
          <p:cNvSpPr/>
          <p:nvPr/>
        </p:nvSpPr>
        <p:spPr>
          <a:xfrm>
            <a:off x="2776680" y="1544760"/>
            <a:ext cx="34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lant flowers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种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18"/>
          <p:cNvSpPr/>
          <p:nvPr/>
        </p:nvSpPr>
        <p:spPr>
          <a:xfrm>
            <a:off x="851040" y="16668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9"/>
          <p:cNvSpPr/>
          <p:nvPr/>
        </p:nvSpPr>
        <p:spPr>
          <a:xfrm>
            <a:off x="1109520" y="16556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9" descr="book.gif"/>
          <p:cNvPicPr/>
          <p:nvPr/>
        </p:nvPicPr>
        <p:blipFill>
          <a:blip r:embed="rId2"/>
          <a:stretch/>
        </p:blipFill>
        <p:spPr>
          <a:xfrm>
            <a:off x="49320" y="15526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1166760" y="202392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lant /plɑːn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种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2127240" y="262404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plant vegetables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想要种植蔬菜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1359720" y="282888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1109520" y="4205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100240" y="3951360"/>
            <a:ext cx="60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t flowers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花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t vegetable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菜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1155600" y="5551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2876400" y="542916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t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3352680" y="459900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划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飞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144440" y="4844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0" descr=""/>
          <p:cNvPicPr/>
          <p:nvPr/>
        </p:nvPicPr>
        <p:blipFill>
          <a:blip r:embed="rId3"/>
          <a:stretch/>
        </p:blipFill>
        <p:spPr>
          <a:xfrm>
            <a:off x="7048440" y="1814400"/>
            <a:ext cx="117792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16:24Z</dcterms:modified>
  <cp:revision>6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